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4.png" ContentType="image/png"/>
  <Override PartName="/ppt/media/image8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5.pct" ContentType="image/x-pict"/>
  <Override PartName="/ppt/media/image6.pct" ContentType="image/x-pict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506A-B92D-4338-9B45-D4CBD315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BFB9-9BD3-4EB8-B3D4-6BBDEB05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F7B-5025-4791-829E-B3B789B1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D5D-3CB4-4D94-A4DA-32F75DE6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AA2-D470-47E9-93FE-FD2999FC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8B6-FA84-4698-AD1F-A012552F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B51C-AD1B-4E61-97E6-428D10BC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177-12F6-43E0-B1F2-5411114D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E47-162B-49BC-A104-CF7CA904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A545-7545-440E-BD47-1123702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ABE-097D-4E09-8A99-84881239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839-18FD-44FB-ADE3-659556FD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9626-DA82-481A-B3A5-AA13D9CBF612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This%20is%20Jeopardy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54.xml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44.xml"/><Relationship Id="rId13" Type="http://schemas.openxmlformats.org/officeDocument/2006/relationships/slide" Target="slide16.xml"/><Relationship Id="rId14" Type="http://schemas.openxmlformats.org/officeDocument/2006/relationships/slide" Target="slide26.xml"/><Relationship Id="rId15" Type="http://schemas.openxmlformats.org/officeDocument/2006/relationships/slide" Target="slide36.xml"/><Relationship Id="rId16" Type="http://schemas.openxmlformats.org/officeDocument/2006/relationships/slide" Target="slide46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8.xml"/><Relationship Id="rId21" Type="http://schemas.openxmlformats.org/officeDocument/2006/relationships/slide" Target="slide38.xml"/><Relationship Id="rId22" Type="http://schemas.openxmlformats.org/officeDocument/2006/relationships/slide" Target="slide48.xml"/><Relationship Id="rId23" Type="http://schemas.openxmlformats.org/officeDocument/2006/relationships/slide" Target="slide30.xml"/><Relationship Id="rId24" Type="http://schemas.openxmlformats.org/officeDocument/2006/relationships/slide" Target="slide40.xml"/><Relationship Id="rId25" Type="http://schemas.openxmlformats.org/officeDocument/2006/relationships/slide" Target="slide5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52.xml"/><Relationship Id="rId29" Type="http://schemas.openxmlformats.org/officeDocument/2006/relationships/slide" Target="slide2.xml"/><Relationship Id="rId30" Type="http://schemas.openxmlformats.org/officeDocument/2006/relationships/image" Target="../media/image2.png"/><Relationship Id="rId31" Type="http://schemas.openxmlformats.org/officeDocument/2006/relationships/slide" Target="slide2.xml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096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does the autonomic nervous system control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051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Involuntary motio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44792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What are the 2 types of autonomic motion and what do they do?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6094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Sympathetic- allows body to function under stress (fight or flight)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Parasympathetic- calms body back down after stress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concussi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a brain injur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re does the concussion result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1337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It results with injures to the neck and the spin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981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spinal cord injur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2952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a damage in the spinal cord that can make you loss   your sensa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590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o can get it??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 can happen to anyone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n can someone get i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33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They can get it in any ag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29528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ich disease can be prevented by taking folic acids when pregnan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Spina Bifid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371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en does Multiple Sclerosis occur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Between the late 20s and early 40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2860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As we age, what happen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Neurons die from normal wear, tear and injury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dden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Illness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1st</a:t>
            </a:r>
            <a:r>
              <a:rPr b="1" lang="en-US" sz="1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i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Identify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e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Pictu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Diseases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Disorder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2952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are the 3 surgical treatments for Parkinson’s Diseas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Pallidotomy, Thalamotomy and Deep-Brain Stimula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kind of brain disorder is Epileps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Seizure Disord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26668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Ictu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The whole Epileptic Seizure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666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Post-Ictu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8288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The time period after an Epileptic seizur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9810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sensory nerv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600200"/>
            <a:ext cx="78487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ff66cc"/>
                </a:solidFill>
                <a:latin typeface="Times New Roman"/>
              </a:rPr>
              <a:t>Nerves that send messages to the brain through the spinal cord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219320"/>
            <a:ext cx="7848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Brain, Spinal cord, and nerves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98108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is a motor nerv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0666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Nerves that carry impulses from the brain to the muscles and glands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600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’s the MR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It’s the Magnetinc Resonace Angiography 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590920"/>
            <a:ext cx="7772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66cc"/>
                </a:solidFill>
                <a:latin typeface="Times New Roman"/>
              </a:rPr>
              <a:t>What is this?</a:t>
            </a:r>
            <a:endParaRPr b="0" lang="en-US" sz="4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11588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133720"/>
            <a:ext cx="78487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66cc"/>
                </a:solidFill>
                <a:latin typeface="Times New Roman"/>
              </a:rPr>
              <a:t>The Spinal Cord</a:t>
            </a:r>
            <a:endParaRPr b="0" lang="en-US" sz="5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2743200"/>
            <a:ext cx="74674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66cc"/>
                </a:solidFill>
                <a:latin typeface="Times New Roman"/>
              </a:rPr>
              <a:t>What is this?</a:t>
            </a:r>
            <a:endParaRPr b="0" lang="en-US" sz="51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102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The brai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821160"/>
            <a:ext cx="51008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66cc"/>
                </a:solidFill>
                <a:latin typeface="Times New Roman"/>
              </a:rPr>
              <a:t>What are these 3 parts of the brain called?</a:t>
            </a:r>
            <a:endParaRPr b="0" lang="en-US" sz="3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5753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838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cc"/>
                </a:solidFill>
                <a:latin typeface="Times New Roman"/>
              </a:rPr>
              <a:t>The STN, Thalamus, &amp; Quiet Zone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79246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21337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cc"/>
                </a:solidFill>
                <a:latin typeface="Times New Roman"/>
              </a:rPr>
              <a:t>What are the three component of the central nervous system?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What type of nerves are these?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638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133720"/>
            <a:ext cx="7848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ff66cc"/>
                </a:solidFill>
                <a:latin typeface="Times New Roman"/>
              </a:rPr>
              <a:t>Motor nerves</a:t>
            </a:r>
            <a:endParaRPr b="0" lang="en-US" sz="9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80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type of nerves are thes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0673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133720"/>
            <a:ext cx="7848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700" spc="-1" strike="noStrike">
                <a:solidFill>
                  <a:srgbClr val="ff66cc"/>
                </a:solidFill>
                <a:latin typeface="Times New Roman"/>
              </a:rPr>
              <a:t>Sensory Nerves</a:t>
            </a:r>
            <a:endParaRPr b="0" lang="en-US" sz="87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13716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doesn’t close properly in 1/1000 babies, who have Spina Bifid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2133720"/>
            <a:ext cx="784872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ff66cc"/>
                </a:solidFill>
                <a:latin typeface="Times New Roman"/>
              </a:rPr>
              <a:t>The Neural Tube</a:t>
            </a:r>
            <a:endParaRPr b="0" lang="en-US" sz="7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do nerve impulses do?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133720"/>
            <a:ext cx="78487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imes New Roman"/>
              </a:rPr>
              <a:t>recieve and transmit information to and from nerve centers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9051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cc"/>
                </a:solidFill>
                <a:latin typeface="Times New Roman"/>
              </a:rPr>
              <a:t>What are the three main nervous system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13372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cc"/>
                </a:solidFill>
                <a:latin typeface="Times New Roman"/>
              </a:rPr>
              <a:t>Central, Somatic, and Autonomic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Jillian  Heyman</cp:lastModifiedBy>
  <dcterms:modified xsi:type="dcterms:W3CDTF">2010-03-17T00:33:48Z</dcterms:modified>
  <cp:revision>74</cp:revision>
  <dc:subject/>
  <dc:title>No Slide Title</dc:title>
</cp:coreProperties>
</file>